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0.gif" ContentType="image/gif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0241-FF3C-4CF5-9180-ED74865B7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B66F-3409-4C4C-AA8C-F39F9FD90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lin that your knowledge can be placed on this continuum. You could possibly get them to place their own “knowledge” on the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0366-7F8E-48FD-A504-CC73AB10E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work on this in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84CF-FD49-4638-830F-416102D12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E253-E40C-48AC-A194-3CCA006C5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BAA2-7E3A-4922-A664-5B031FFD6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his sheet out. Get them to count the leprechauns. Then cut the top half as shown and swap the top halfs – ONE MORE LEPRECHAUN! How?! How safe is our perception of truth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E331-0486-4BF9-9141-8FD013505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15AE-59F9-41AA-8D00-4B0E66DFE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0A3E-C1B3-4515-A766-20FB175C6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E938-B87F-4D5A-A352-64810183F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BC07-9BCF-4D88-930E-C3F87E8DE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AA04-81A8-44B0-809A-44974B9AF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ile of sand + one pile of sand = one pile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AA5B-0F53-4F16-BC6E-B4093D4A7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rust your memory? Have you seen the Matrix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0EBD-B34F-49B4-9441-6F2E3F477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a knowledge state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AD95-7EA4-49F9-A613-69C69F22D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5A3C-F03A-4CEE-87DB-FC442B3DF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67CF-FFF9-4DFD-B992-D485B0154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4A3E-3D8A-467C-8C1C-380344C9B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662D-46D7-46B5-8EF7-A3EEF0C50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46D7-F20F-434F-8053-AB987AF71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one thi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6D13-6D64-418F-9416-5821321A0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 t just stupid people who get things wro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that what you learn in school will not be totally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know if something is tru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387F-A990-4FC2-9426-6B33A2A5C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8D09-652D-42C7-8FFB-3C68E94E4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8A0C-F53E-46E0-8133-D973BF8BB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33E3-C094-47B3-8212-956F12002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15AF-BFAB-4A09-A949-0F3CDFB10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A7C6-E474-460B-85CB-EEA9B59C2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estimates are that the universe is 15 billion  years old - The earth is 4.55 billion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s developed about 2 million years ago - These figures are controversial! – most probab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pm 1 January – and the universe began exactly 1 year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ay – the galaxy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September –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days later the earth was formed (1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September – life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ovember – oldest photosynthetic plants devel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December – significant quantity of oxygen in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irst 8 ½ months there was n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nother 2 ½ there was no conceivable way for human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 December – fish developed – trees followed soon after (2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Decemeber – dinosaurs, mammals 26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cember – seems a massive comet hit earth causing major climatic change killing dinosa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December – humans appeared – all human history happened on the last day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59.59 – Renaissance and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(in this room) have existed for a tiny fraction of second, on the last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likely is it that we have found out any profound truths about 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CB8A-91EB-4591-8C88-A1970BBFF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see knowledge as organised common sense – some vali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often little more than vague &amp; untested beliefs based on prejudice, hearsay and blind appeals to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is a starting point in coping with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al map of reality – our ideas of T &amp; F, what is reasonable/ unreasonable, right/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you should be willing to subject your MM to critical scruti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931E-409E-4BA6-AA8C-43905E572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ator 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orts relative size – places further from Equator = larger. Africa 4x Gree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Hemisphere at top – no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centric – Pacif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644A-54DF-4249-87EE-B7DDE1A38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bo-Dyer projection – reflects relative siz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ientating! Illustrates grip habitual ways of thinking have on our minds – difficult to 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mental maps may give us a distorted picture of re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&amp; beliefs – own exp, parents, friends, teachers, books,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 check everything – MM - likely inaccuracies, half truths, falseh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s &amp; conventions – difficult to think outside what we are familiar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al biases – Greatest writer? Greatest scientist? (GB = Shakespeare, Newton. Italy = Dante, Galile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have a perfect map? 1:1 – quickly out of date – to be useful it has to be imper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p is not the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24A2-CF6F-4B4E-9EDD-2FB32C42C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problems with our common sense picture should we stick to what we are certain ab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know something you are certain it i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lieve something you may think it is true, but you are not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how certain can we ever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AE02-F12E-437E-B8E6-B8DFD54A6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E3C8-E9F6-4DA3-9A7B-A9AF8A707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C81-9E18-4F74-9E8E-BA5060CA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223-5703-49A8-82E1-720F77C4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37C-C4DB-41D3-AD2A-F15217EF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04B-D403-42C7-9873-D985D904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66A-14A1-4CAE-851B-81382A72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BAB0-3FE2-4F6B-ACFB-72C86AAD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DAC-33F6-4170-94F2-1CE3B78A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EF6-558A-4835-B35E-324451C6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7A13-A071-4C08-A4C9-586E7E73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DA8-2DF9-4608-B2AC-32CB0A31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F74-BFBE-47F2-BADB-547ABF8D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7212-AB78-4054-A7EA-38CB23EE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39EF-4EBC-4B78-B5E4-6F3A3B7169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yetricks.com/3301.htm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heory of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answersingenesis.org/assets/images/articles/2006/05/cartoonist_theory.gif"/>
          <p:cNvPicPr/>
          <p:nvPr/>
        </p:nvPicPr>
        <p:blipFill>
          <a:blip r:embed="rId2"/>
          <a:stretch/>
        </p:blipFill>
        <p:spPr>
          <a:xfrm>
            <a:off x="1447920" y="1676520"/>
            <a:ext cx="609588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choose three of the things you “know” that you are least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flying-pig"/>
          <p:cNvPicPr/>
          <p:nvPr/>
        </p:nvPicPr>
        <p:blipFill>
          <a:blip r:embed="rId1"/>
          <a:stretch/>
        </p:blipFill>
        <p:spPr>
          <a:xfrm>
            <a:off x="2286000" y="3124080"/>
            <a:ext cx="388764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/knowledge continu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Unlik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ob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m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er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>
            <a:off x="152280" y="3962520"/>
            <a:ext cx="86868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68580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426708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830592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81952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632448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we get our knowledg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ok at your list of things that you „know”. Where and how did you get that knowl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books"/>
          <p:cNvPicPr/>
          <p:nvPr/>
        </p:nvPicPr>
        <p:blipFill>
          <a:blip r:embed="rId1"/>
          <a:stretch/>
        </p:blipFill>
        <p:spPr>
          <a:xfrm>
            <a:off x="3276720" y="3200400"/>
            <a:ext cx="53528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http://2.bp.blogspot.com/_04dOdG4x1PY/SN_vndm77XI/AAAAAAAAAvk/KwIxq0SVf3U/s320/Capa.JPG"/>
          <p:cNvPicPr/>
          <p:nvPr/>
        </p:nvPicPr>
        <p:blipFill>
          <a:blip r:embed="rId1"/>
          <a:stretch/>
        </p:blipFill>
        <p:spPr>
          <a:xfrm>
            <a:off x="2057400" y="17524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ky is bl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www.techspot.com/gallery/data/504/medium/13880Blue_Sky.jpg"/>
          <p:cNvPicPr/>
          <p:nvPr/>
        </p:nvPicPr>
        <p:blipFill>
          <a:blip r:embed="rId1"/>
          <a:stretch/>
        </p:blipFill>
        <p:spPr>
          <a:xfrm>
            <a:off x="1219320" y="16956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914400" y="4114800"/>
            <a:ext cx="7010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0"/>
          <p:cNvSpPr/>
          <p:nvPr/>
        </p:nvSpPr>
        <p:spPr>
          <a:xfrm>
            <a:off x="914400" y="4114800"/>
            <a:ext cx="70866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2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leprechauns"/>
          <p:cNvPicPr/>
          <p:nvPr/>
        </p:nvPicPr>
        <p:blipFill>
          <a:blip r:embed="rId1"/>
          <a:stretch/>
        </p:blipFill>
        <p:spPr>
          <a:xfrm>
            <a:off x="343080" y="2057400"/>
            <a:ext cx="8038800" cy="4267080"/>
          </a:xfrm>
          <a:prstGeom prst="rect">
            <a:avLst/>
          </a:prstGeom>
          <a:ln w="0">
            <a:noFill/>
          </a:ln>
        </p:spPr>
      </p:pic>
      <p:sp>
        <p:nvSpPr>
          <p:cNvPr id="115" name="Freeform 10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1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leprechau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ractor Perspective Illusion - Optical Illusion Image Gallery #3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moving lines of leaves"/>
          <p:cNvPicPr/>
          <p:nvPr/>
        </p:nvPicPr>
        <p:blipFill>
          <a:blip r:embed="rId7"/>
          <a:stretch/>
        </p:blipFill>
        <p:spPr>
          <a:xfrm>
            <a:off x="1828800" y="1484280"/>
            <a:ext cx="668664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http://twinmath.wikispaces.com/file/view/Logo-1-2-Buckle....gif"/>
          <p:cNvPicPr/>
          <p:nvPr/>
        </p:nvPicPr>
        <p:blipFill>
          <a:blip r:embed="rId1"/>
          <a:stretch/>
        </p:blipFill>
        <p:spPr>
          <a:xfrm>
            <a:off x="2362320" y="1752480"/>
            <a:ext cx="4724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know a lot by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access to even more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spapers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Alien base found on dark side of the moon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Elvis is alive’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s made about future all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ase 2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 + 1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971800"/>
          <a:ext cx="7772400" cy="35784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http://images.neopets.com/desert/ldp/trap_sand.gif"/>
          <p:cNvPicPr/>
          <p:nvPr/>
        </p:nvPicPr>
        <p:blipFill>
          <a:blip r:embed="rId1"/>
          <a:stretch/>
        </p:blipFill>
        <p:spPr>
          <a:xfrm>
            <a:off x="3049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images.neopets.com/desert/ldp/trap_sand.gif"/>
          <p:cNvPicPr/>
          <p:nvPr/>
        </p:nvPicPr>
        <p:blipFill>
          <a:blip r:embed="rId2"/>
          <a:stretch/>
        </p:blipFill>
        <p:spPr>
          <a:xfrm>
            <a:off x="28195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images.neopets.com/desert/ldp/trap_sand.gif"/>
          <p:cNvPicPr/>
          <p:nvPr/>
        </p:nvPicPr>
        <p:blipFill>
          <a:blip r:embed="rId3"/>
          <a:stretch/>
        </p:blipFill>
        <p:spPr>
          <a:xfrm>
            <a:off x="5105520" y="1523880"/>
            <a:ext cx="3828960" cy="38293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2438280" y="38862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5105520" y="38862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went for a run yester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http://observers.france24.com/files/images/usain-bolt-m.jpg"/>
          <p:cNvPicPr/>
          <p:nvPr/>
        </p:nvPicPr>
        <p:blipFill>
          <a:blip r:embed="rId1"/>
          <a:stretch/>
        </p:blipFill>
        <p:spPr>
          <a:xfrm>
            <a:off x="1523880" y="1905120"/>
            <a:ext cx="6127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omen are more emotional than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http://www.dogbitelaw.com/graphics/Crying-woman-small.jpg"/>
          <p:cNvPicPr/>
          <p:nvPr/>
        </p:nvPicPr>
        <p:blipFill>
          <a:blip r:embed="rId1"/>
          <a:stretch/>
        </p:blipFill>
        <p:spPr>
          <a:xfrm>
            <a:off x="2743200" y="1981080"/>
            <a:ext cx="342900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love my br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ontent Placeholder 3" descr="Lee.jpg"/>
          <p:cNvPicPr/>
          <p:nvPr/>
        </p:nvPicPr>
        <p:blipFill>
          <a:blip r:embed="rId1"/>
          <a:stretch/>
        </p:blipFill>
        <p:spPr>
          <a:xfrm>
            <a:off x="3048120" y="1828800"/>
            <a:ext cx="28731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a lake is more beautiful than a sewage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cheapoair.files.wordpress.com/2009/04/lake-titicaca.jpg"/>
          <p:cNvPicPr/>
          <p:nvPr/>
        </p:nvPicPr>
        <p:blipFill>
          <a:blip r:embed="rId1"/>
          <a:stretch/>
        </p:blipFill>
        <p:spPr>
          <a:xfrm>
            <a:off x="304920" y="4114800"/>
            <a:ext cx="3808440" cy="2400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www.north-dorset.gov.uk/printer/sewage_wks-2.jpg"/>
          <p:cNvPicPr/>
          <p:nvPr/>
        </p:nvPicPr>
        <p:blipFill>
          <a:blip r:embed="rId2"/>
          <a:stretch/>
        </p:blipFill>
        <p:spPr>
          <a:xfrm>
            <a:off x="4635360" y="1981080"/>
            <a:ext cx="3937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 room is h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t3.gstatic.com/images?q=tbn:ANd9GcRxR7v3v1adIkrfFh3yrUQocLFo8kkmJFuR_ty14_B0yez2zpI&amp;t=1&amp;usg=__QoYAp7D6hKlDLYxRICt1cqZMEAE="/>
          <p:cNvPicPr/>
          <p:nvPr/>
        </p:nvPicPr>
        <p:blipFill>
          <a:blip r:embed="rId2"/>
          <a:stretch/>
        </p:blipFill>
        <p:spPr>
          <a:xfrm>
            <a:off x="2438280" y="1676520"/>
            <a:ext cx="3810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Mozart was a great compo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http://scrapetv.com/News/News%20Pages/Entertainment/images-3/amadeus-movie.jpg"/>
          <p:cNvPicPr/>
          <p:nvPr/>
        </p:nvPicPr>
        <p:blipFill>
          <a:blip r:embed="rId1"/>
          <a:stretch/>
        </p:blipFill>
        <p:spPr>
          <a:xfrm>
            <a:off x="914400" y="2057400"/>
            <a:ext cx="6400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life after de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http://1.bp.blogspot.com/_-2IprnjpOLw/SOR1QgwY81I/AAAAAAAAAIE/2U2RFIQJED8/s400/life_after_death.jpg"/>
          <p:cNvPicPr/>
          <p:nvPr/>
        </p:nvPicPr>
        <p:blipFill>
          <a:blip r:embed="rId1"/>
          <a:stretch/>
        </p:blipFill>
        <p:spPr>
          <a:xfrm>
            <a:off x="2209680" y="19810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a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http://www.cartoonstock.com/newscartoons/cartoonists/jht/lowres/jhtn43l.jpg"/>
          <p:cNvPicPr/>
          <p:nvPr/>
        </p:nvPicPr>
        <p:blipFill>
          <a:blip r:embed="rId1"/>
          <a:stretch/>
        </p:blipFill>
        <p:spPr>
          <a:xfrm>
            <a:off x="2286000" y="1600200"/>
            <a:ext cx="38862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880" y="3049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is no likelihood that humans will ever tap the power of the atom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 Millikan, Nobel Prize winner in 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tom bomb will never go off and I speak as an expert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ral Leahy, advisor to the US President (19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there will be a world market for 5 computers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as Watson, founder of IBM (195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2000 women will wear pants, men will wear skirts, both sexes will go bare-chested and clothes will be see-through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di Gernreitch. American fashion expert (197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ternet will never take off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Gates, founder of Microsoft (198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dogs are disgu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http://www.maniacworld.com/dog-eats-his-own-poop-2.jpg"/>
          <p:cNvPicPr/>
          <p:nvPr/>
        </p:nvPicPr>
        <p:blipFill>
          <a:blip r:embed="rId1"/>
          <a:stretch/>
        </p:blipFill>
        <p:spPr>
          <a:xfrm>
            <a:off x="1523880" y="16765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4400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rtain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838080" y="13716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inguishe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nowled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belie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ut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ithout dou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600200" y="274320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9" descr="descartes"/>
          <p:cNvPicPr/>
          <p:nvPr/>
        </p:nvPicPr>
        <p:blipFill>
          <a:blip r:embed="rId1"/>
          <a:stretch/>
        </p:blipFill>
        <p:spPr>
          <a:xfrm>
            <a:off x="5580000" y="2262240"/>
            <a:ext cx="2878200" cy="34480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/>
          <p:cNvSpPr/>
          <p:nvPr/>
        </p:nvSpPr>
        <p:spPr>
          <a:xfrm>
            <a:off x="4038480" y="5715000"/>
            <a:ext cx="3657600" cy="685800"/>
          </a:xfrm>
          <a:prstGeom prst="wedgeRoundRectCallout">
            <a:avLst>
              <a:gd name="adj1" fmla="val 27819"/>
              <a:gd name="adj2" fmla="val -16666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 think, therefore I 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ism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0" descr="santa_claus_000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715000" y="2057400"/>
            <a:ext cx="2998800" cy="445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979200" y="1143000"/>
            <a:ext cx="60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absolute objective 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owledge is relative to the individu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lture or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905120" y="3505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45680" y="5943600"/>
            <a:ext cx="51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may be safer for ethics, politics &amp; reli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ut what about maths and science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4" descr="flat-earth-society"/>
          <p:cNvPicPr/>
          <p:nvPr/>
        </p:nvPicPr>
        <p:blipFill>
          <a:blip r:embed="rId2"/>
          <a:stretch/>
        </p:blipFill>
        <p:spPr>
          <a:xfrm>
            <a:off x="322200" y="2362320"/>
            <a:ext cx="3225960" cy="35049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16"/>
          <p:cNvSpPr/>
          <p:nvPr/>
        </p:nvSpPr>
        <p:spPr>
          <a:xfrm>
            <a:off x="3124080" y="2743200"/>
            <a:ext cx="2514600" cy="1219320"/>
          </a:xfrm>
          <a:prstGeom prst="wedgeRoundRectCallout">
            <a:avLst>
              <a:gd name="adj1" fmla="val -68055"/>
              <a:gd name="adj2" fmla="val 1966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 knew the Earth was f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447920" y="4952880"/>
            <a:ext cx="4495680" cy="685800"/>
          </a:xfrm>
          <a:prstGeom prst="wedgeRoundRectCallout">
            <a:avLst>
              <a:gd name="adj1" fmla="val 59745"/>
              <a:gd name="adj2" fmla="val -3263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 know Santa Claus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ie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knowledg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belief in the knowledge statement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true belief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24364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182880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id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asonable &amp; positive evidence that supports &amp; justifies belie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her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oes this fit with our current understan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163520" y="541008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you see any problems with these requir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school.discoveryeducation.com/schooladventures/images/universe/itsawesome/cosmiccalendar/decemberimage.jpg"/>
          <p:cNvPicPr/>
          <p:nvPr/>
        </p:nvPicPr>
        <p:blipFill>
          <a:blip r:embed="rId2"/>
          <a:stretch/>
        </p:blipFill>
        <p:spPr>
          <a:xfrm>
            <a:off x="533520" y="533520"/>
            <a:ext cx="8153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indoor-thinker"/>
          <p:cNvPicPr/>
          <p:nvPr/>
        </p:nvPicPr>
        <p:blipFill>
          <a:blip r:embed="rId1"/>
          <a:stretch/>
        </p:blipFill>
        <p:spPr>
          <a:xfrm>
            <a:off x="2666880" y="1676520"/>
            <a:ext cx="377352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upload.wikimedia.org/wikipedia/commons/7/74/Mercator-projection.jpg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worldbridgermedia.com/Cartography/vis_history/vis_history_images/Hobo-Dyer-South.jpg"/>
          <p:cNvPicPr/>
          <p:nvPr/>
        </p:nvPicPr>
        <p:blipFill>
          <a:blip r:embed="rId2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HomerSimpson46"/>
          <p:cNvPicPr/>
          <p:nvPr/>
        </p:nvPicPr>
        <p:blipFill>
          <a:blip r:embed="rId1"/>
          <a:stretch/>
        </p:blipFill>
        <p:spPr>
          <a:xfrm>
            <a:off x="0" y="3809880"/>
            <a:ext cx="214308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Rounded Rectangular Callout 3"/>
          <p:cNvSpPr/>
          <p:nvPr/>
        </p:nvSpPr>
        <p:spPr>
          <a:xfrm>
            <a:off x="2819520" y="2209680"/>
            <a:ext cx="4343400" cy="1067040"/>
          </a:xfrm>
          <a:prstGeom prst="wedgeRoundRectCallout">
            <a:avLst>
              <a:gd name="adj1" fmla="val -83550"/>
              <a:gd name="adj2" fmla="val 21026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have 5 minutes to write down things that you “know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things you know, can you pick 3 things that you are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gravestone"/>
          <p:cNvPicPr/>
          <p:nvPr/>
        </p:nvPicPr>
        <p:blipFill>
          <a:blip r:embed="rId1"/>
          <a:stretch/>
        </p:blipFill>
        <p:spPr>
          <a:xfrm>
            <a:off x="1752480" y="3200400"/>
            <a:ext cx="518184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1:26:08Z</dcterms:created>
  <dc:creator>Dad</dc:creator>
  <dc:description/>
  <dc:language>en-US</dc:language>
  <cp:lastModifiedBy>Carl</cp:lastModifiedBy>
  <dcterms:modified xsi:type="dcterms:W3CDTF">2012-08-26T00:32:08Z</dcterms:modified>
  <cp:revision>47</cp:revision>
  <dc:subject/>
  <dc:title>Knowledge and reasoning</dc:title>
</cp:coreProperties>
</file>