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BBFD-D905-4A88-942A-E91423439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6949-86D4-487B-9892-1C40EFEB3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lin that your knowledge can be placed on this continuum. You could possibly get them to place their own “knowledge” on th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988F-FA89-4A02-BEF1-82200157C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work on this in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D8D-115D-4EAA-B551-E243A4BC3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514E-1E98-4132-B664-35316742B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372A-152C-4F04-A2D0-189654542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his sheet out. Get them to count the leprechauns. Then cut the top half as shown and swap the top halfs – ONE MORE LEPRECHAUN! How?! How safe is our perception of truth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EF59-6CC8-4C2A-A3CB-59DE13B82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49B4-7C8F-424D-9B50-7F932B9BE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5B63-8D2F-48C7-BCDD-EF610853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6437-A6B0-4ABC-9D55-EC7022E0A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7358-C8CD-4818-B556-EF67A3E80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8353-8579-4720-A912-3C087A3FD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ile of sand + one pile of sand = one pil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6E58-D957-42EC-97BD-96254BD2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rust your memory? Have you seen the Matrix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EAA2-8157-4A10-8D04-31A1D35D7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a knowledge state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73A6-1032-48AE-98FD-13B54A0D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99CD-AB33-457A-BC4C-00BC39A0E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FBCB-6723-45F2-A647-B579C7D93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3A3F-ED13-40F0-B9B8-190CAAE49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279-5B25-48E9-A8F3-4481D4B4F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C03A-D96D-47F9-8B1C-B12296475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one thi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8DDF-FDC6-43AA-88CD-20F4B3286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 t just stupid people who get things wro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that what you learn in school will not be totally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if something is tru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4472-DF7A-456A-97F2-0F56698FA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3100-4BFB-4247-A11A-B9BAA4DA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9772-09F4-4B2A-BF3D-732FE2221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62BB-E550-402B-ACC6-7FA946004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424F-BDF1-4982-99FB-6A265403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7047-F529-4175-BDCA-079AE47B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estimates are that the universe is 15 billion  years old - The earth is 4.55 billion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s developed about 2 million years ago - These figures are controversial! – most probab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pm 1 January – and the universe began exactly 1 year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ay – the galaxy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September –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days later the earth was formed (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September – life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ovember – oldest photosynthetic plants deve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December – significant quantity of oxygen in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rst 8 ½ months there was n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other 2 ½ there was no conceivable way for human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 December – fish developed – trees followed soon after (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Decemeber – dinosaurs, mammals 2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cember – seems a massive comet hit earth causing major climatic change killing dinosa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December – humans appeared – all human history happened on the last day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59.59 – Renaissance and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(in this room) have existed for a tiny fraction of second, on the las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likely is it that we have found out any profound truths about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C7BF-B568-4516-8D0A-5F63B763F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see knowledge as organised common sense – some vali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ften little more than vague &amp; untested beliefs based on prejudice, hearsay and blind appeals to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is a starting point in coping with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al map of reality – our ideas of T &amp; F, what is reasonable/ unreasonable, right/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you should be willing to subject your MM to critical scrut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5C08-9925-4DD0-B68D-C593FCED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ator 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orts relative size – places further from Equator = larger. Africa 4x Gree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Hemisphere at top – no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centric – Pacif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DC5F-E87A-4458-BAE3-04993C8D8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bo-Dyer projection – reflects relative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ientating! Illustrates grip habitual ways of thinking have on our minds – difficult to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ense mental maps may give us a distorted picture of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&amp; beliefs – own exp, parents, friends, teachers, books,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 check everything – MM - likely inaccuracies, half truths, falseh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&amp; conventions – difficult to think outside what we are familia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al biases – Greatest writer? Greatest scientist? (GB = Shakespeare, Newton. Italy = Dante, Galil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have a perfect map? 1:1 – quickly out of date – to be useful it has to be imper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p is not the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90C-851B-4A76-88B3-F993BD7B6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problems with our common sense picture should we stick to what we are certain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know something you are certain it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lieve something you may think it is true, but you are not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how certain can we ever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AD37-BF1F-4F37-A052-160209F2E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B1A1-C403-4115-BE71-6D7764798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875-FE40-4493-99C6-4834F6FA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3B3-938F-413C-AD0A-C49B5CD4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932-FB2B-4945-80FF-ABED2471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252-4A63-4B11-B010-F78FE149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FED-23F8-46E8-B063-ECBD69C4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D7E-3E33-4561-8058-87200A9A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31A-E8DE-4D0B-880C-74ED19D4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7F0-996B-42B8-A7E9-9B023B2A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3C1-76B1-422C-8E96-98C0637E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AF9-0295-482E-B07E-710D8AA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0E9-F308-4CBB-9700-5DCD8222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596-14F1-40E5-8A0C-89923A0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3D00-B436-4F88-855A-270C2C8C67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yetricks.com/3301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heory of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answersingenesis.org/assets/images/articles/2006/05/cartoonist_theory.gif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hoose three of the things you “know” that you are least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lying-pig"/>
          <p:cNvPicPr/>
          <p:nvPr/>
        </p:nvPicPr>
        <p:blipFill>
          <a:blip r:embed="rId1"/>
          <a:stretch/>
        </p:blipFill>
        <p:spPr>
          <a:xfrm>
            <a:off x="2286000" y="3124080"/>
            <a:ext cx="38876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/knowledge continu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nlik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b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m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52280" y="3962520"/>
            <a:ext cx="8686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858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830592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324480" y="3657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et our knowledg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ok at your list of things that you „know”. Where and how did you get that knowle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books"/>
          <p:cNvPicPr/>
          <p:nvPr/>
        </p:nvPicPr>
        <p:blipFill>
          <a:blip r:embed="rId1"/>
          <a:stretch/>
        </p:blipFill>
        <p:spPr>
          <a:xfrm>
            <a:off x="3276720" y="3200400"/>
            <a:ext cx="5352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http://2.bp.blogspot.com/_04dOdG4x1PY/SN_vndm77XI/AAAAAAAAAvk/KwIxq0SVf3U/s320/Cap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ky is b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techspot.com/gallery/data/504/medium/13880Blue_Sky.jpg"/>
          <p:cNvPicPr/>
          <p:nvPr/>
        </p:nvPicPr>
        <p:blipFill>
          <a:blip r:embed="rId1"/>
          <a:stretch/>
        </p:blipFill>
        <p:spPr>
          <a:xfrm>
            <a:off x="1219320" y="16956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914400" y="4114800"/>
            <a:ext cx="7010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prechauns"/>
          <p:cNvPicPr/>
          <p:nvPr/>
        </p:nvPicPr>
        <p:blipFill>
          <a:blip r:embed="rId1"/>
          <a:stretch/>
        </p:blipFill>
        <p:spPr>
          <a:xfrm>
            <a:off x="1143000" y="2057400"/>
            <a:ext cx="6667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914400" y="4114800"/>
            <a:ext cx="7086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leprechauns"/>
          <p:cNvPicPr/>
          <p:nvPr/>
        </p:nvPicPr>
        <p:blipFill>
          <a:blip r:embed="rId1"/>
          <a:stretch/>
        </p:blipFill>
        <p:spPr>
          <a:xfrm>
            <a:off x="343080" y="2057400"/>
            <a:ext cx="803880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10"/>
          <p:cNvSpPr/>
          <p:nvPr/>
        </p:nvSpPr>
        <p:spPr>
          <a:xfrm>
            <a:off x="2590920" y="1130400"/>
            <a:ext cx="3733560" cy="774720"/>
          </a:xfrm>
          <a:custGeom>
            <a:avLst/>
            <a:gdLst>
              <a:gd name="textAreaLeft" fmla="*/ 0 w 3733560"/>
              <a:gd name="textAreaRight" fmla="*/ 3733920 w 3733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352" h="488">
                <a:moveTo>
                  <a:pt x="2352" y="488"/>
                </a:moveTo>
                <a:cubicBezTo>
                  <a:pt x="1900" y="252"/>
                  <a:pt x="1448" y="16"/>
                  <a:pt x="1056" y="8"/>
                </a:cubicBezTo>
                <a:cubicBezTo>
                  <a:pt x="664" y="0"/>
                  <a:pt x="332" y="220"/>
                  <a:pt x="0" y="44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>
            <a:off x="3352680" y="1066680"/>
            <a:ext cx="3505320" cy="83844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208" h="528">
                <a:moveTo>
                  <a:pt x="0" y="528"/>
                </a:moveTo>
                <a:cubicBezTo>
                  <a:pt x="464" y="264"/>
                  <a:pt x="928" y="0"/>
                  <a:pt x="1296" y="0"/>
                </a:cubicBezTo>
                <a:cubicBezTo>
                  <a:pt x="1664" y="0"/>
                  <a:pt x="1936" y="264"/>
                  <a:pt x="2208" y="52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leprechau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ractor Perspective Illusion - Optical Illusion Image Gallery #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Neus1"/>
          <p:cNvPicPr/>
          <p:nvPr/>
        </p:nvPicPr>
        <p:blipFill>
          <a:blip r:embed="rId2"/>
          <a:stretch/>
        </p:blipFill>
        <p:spPr>
          <a:xfrm>
            <a:off x="304920" y="304920"/>
            <a:ext cx="839520" cy="99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nny-eyes-012b"/>
          <p:cNvPicPr/>
          <p:nvPr/>
        </p:nvPicPr>
        <p:blipFill>
          <a:blip r:embed="rId3"/>
          <a:stretch/>
        </p:blipFill>
        <p:spPr>
          <a:xfrm>
            <a:off x="1371600" y="380880"/>
            <a:ext cx="121932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nger-stung-by-juvenile-centruroides-gracilis"/>
          <p:cNvPicPr/>
          <p:nvPr/>
        </p:nvPicPr>
        <p:blipFill>
          <a:blip r:embed="rId4"/>
          <a:stretch/>
        </p:blipFill>
        <p:spPr>
          <a:xfrm>
            <a:off x="5791320" y="2286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ghtEar"/>
          <p:cNvPicPr/>
          <p:nvPr/>
        </p:nvPicPr>
        <p:blipFill>
          <a:blip r:embed="rId5"/>
          <a:stretch/>
        </p:blipFill>
        <p:spPr>
          <a:xfrm>
            <a:off x="7238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ngue_split"/>
          <p:cNvPicPr/>
          <p:nvPr/>
        </p:nvPicPr>
        <p:blipFill>
          <a:blip r:embed="rId6"/>
          <a:stretch/>
        </p:blipFill>
        <p:spPr>
          <a:xfrm>
            <a:off x="8001000" y="380880"/>
            <a:ext cx="990720" cy="7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oving lines of leaves"/>
          <p:cNvPicPr/>
          <p:nvPr/>
        </p:nvPicPr>
        <p:blipFill>
          <a:blip r:embed="rId7"/>
          <a:stretch/>
        </p:blipFill>
        <p:spPr>
          <a:xfrm>
            <a:off x="1828800" y="1484280"/>
            <a:ext cx="66866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http://twinmath.wikispaces.com/file/view/Logo-1-2-Buckle....gif"/>
          <p:cNvPicPr/>
          <p:nvPr/>
        </p:nvPicPr>
        <p:blipFill>
          <a:blip r:embed="rId1"/>
          <a:stretch/>
        </p:blipFill>
        <p:spPr>
          <a:xfrm>
            <a:off x="2362320" y="1752480"/>
            <a:ext cx="4724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know a lot by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even mor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Alien base found on dark side of the moo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!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‘Elvis is alive’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made about future all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 2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+ 1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7772400" cy="35784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1 =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images.neopets.com/desert/ldp/trap_sand.gif"/>
          <p:cNvPicPr/>
          <p:nvPr/>
        </p:nvPicPr>
        <p:blipFill>
          <a:blip r:embed="rId1"/>
          <a:stretch/>
        </p:blipFill>
        <p:spPr>
          <a:xfrm>
            <a:off x="3049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images.neopets.com/desert/ldp/trap_sand.gif"/>
          <p:cNvPicPr/>
          <p:nvPr/>
        </p:nvPicPr>
        <p:blipFill>
          <a:blip r:embed="rId2"/>
          <a:stretch/>
        </p:blipFill>
        <p:spPr>
          <a:xfrm>
            <a:off x="2819520" y="25909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images.neopets.com/desert/ldp/trap_sand.gif"/>
          <p:cNvPicPr/>
          <p:nvPr/>
        </p:nvPicPr>
        <p:blipFill>
          <a:blip r:embed="rId3"/>
          <a:stretch/>
        </p:blipFill>
        <p:spPr>
          <a:xfrm>
            <a:off x="5105520" y="1523880"/>
            <a:ext cx="3828960" cy="3829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438280" y="3886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10552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went for a run yeste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observers.france24.com/files/images/usain-bolt-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127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omen are more emotional than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www.dogbitelaw.com/graphics/Crying-woman-small.jpg"/>
          <p:cNvPicPr/>
          <p:nvPr/>
        </p:nvPicPr>
        <p:blipFill>
          <a:blip r:embed="rId1"/>
          <a:stretch/>
        </p:blipFill>
        <p:spPr>
          <a:xfrm>
            <a:off x="2743200" y="1981080"/>
            <a:ext cx="34290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I love my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ntent Placeholder 3" descr="Lee.jpg"/>
          <p:cNvPicPr/>
          <p:nvPr/>
        </p:nvPicPr>
        <p:blipFill>
          <a:blip r:embed="rId1"/>
          <a:stretch/>
        </p:blipFill>
        <p:spPr>
          <a:xfrm>
            <a:off x="3048120" y="1828800"/>
            <a:ext cx="2873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a lake is more beautiful than a sewage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cheapoair.files.wordpress.com/2009/04/lake-titicaca.jpg"/>
          <p:cNvPicPr/>
          <p:nvPr/>
        </p:nvPicPr>
        <p:blipFill>
          <a:blip r:embed="rId1"/>
          <a:stretch/>
        </p:blipFill>
        <p:spPr>
          <a:xfrm>
            <a:off x="304920" y="4114800"/>
            <a:ext cx="3808440" cy="240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north-dorset.gov.uk/printer/sewage_wks-2.jpg"/>
          <p:cNvPicPr/>
          <p:nvPr/>
        </p:nvPicPr>
        <p:blipFill>
          <a:blip r:embed="rId2"/>
          <a:stretch/>
        </p:blipFill>
        <p:spPr>
          <a:xfrm>
            <a:off x="4635360" y="1981080"/>
            <a:ext cx="393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 room is 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t3.gstatic.com/images?q=tbn:ANd9GcRxR7v3v1adIkrfFh3yrUQocLFo8kkmJFuR_ty14_B0yez2zpI&amp;t=1&amp;usg=__QoYAp7D6hKlDLYxRICt1cqZMEAE="/>
          <p:cNvPicPr/>
          <p:nvPr/>
        </p:nvPicPr>
        <p:blipFill>
          <a:blip r:embed="rId2"/>
          <a:stretch/>
        </p:blipFill>
        <p:spPr>
          <a:xfrm>
            <a:off x="2438280" y="167652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at Mozart was a great compo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http://scrapetv.com/News/News%20Pages/Entertainment/images-3/amadeus-movie.jpg"/>
          <p:cNvPicPr/>
          <p:nvPr/>
        </p:nvPicPr>
        <p:blipFill>
          <a:blip r:embed="rId1"/>
          <a:stretch/>
        </p:blipFill>
        <p:spPr>
          <a:xfrm>
            <a:off x="914400" y="205740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life after d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1.bp.blogspot.com/_-2IprnjpOLw/SOR1QgwY81I/AAAAAAAAAIE/2U2RFIQJED8/s400/life_after_death.jpg"/>
          <p:cNvPicPr/>
          <p:nvPr/>
        </p:nvPicPr>
        <p:blipFill>
          <a:blip r:embed="rId1"/>
          <a:stretch/>
        </p:blipFill>
        <p:spPr>
          <a:xfrm>
            <a:off x="220968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there is a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http://www.cartoonstock.com/newscartoons/cartoonists/jht/lowres/jhtn43l.jpg"/>
          <p:cNvPicPr/>
          <p:nvPr/>
        </p:nvPicPr>
        <p:blipFill>
          <a:blip r:embed="rId1"/>
          <a:stretch/>
        </p:blipFill>
        <p:spPr>
          <a:xfrm>
            <a:off x="2286000" y="1600200"/>
            <a:ext cx="38862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likelihood that humans will ever tap the power of the atom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illikan, Nobel Prize winner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tom bomb will never go off and I speak as an expert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l Leahy, advisor to the US President (19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there will be a world market for 5 computer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as Watson, founder of IBM (195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2000 women will wear pants, men will wear skirts, both sexes will go bare-chested and clothes will be see-through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i Gernreitch. American fashion expert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ternet will never take off.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, founder of Microsoft (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dogs are disgu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maniacworld.com/dog-eats-his-own-poop-2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4400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ain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080" y="13716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inguish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bel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out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0200" y="27432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descartes"/>
          <p:cNvPicPr/>
          <p:nvPr/>
        </p:nvPicPr>
        <p:blipFill>
          <a:blip r:embed="rId1"/>
          <a:stretch/>
        </p:blipFill>
        <p:spPr>
          <a:xfrm>
            <a:off x="5580000" y="2262240"/>
            <a:ext cx="2878200" cy="3448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/>
          <p:cNvSpPr/>
          <p:nvPr/>
        </p:nvSpPr>
        <p:spPr>
          <a:xfrm>
            <a:off x="4038480" y="5715000"/>
            <a:ext cx="3657600" cy="685800"/>
          </a:xfrm>
          <a:prstGeom prst="wedgeRoundRectCallout">
            <a:avLst>
              <a:gd name="adj1" fmla="val 27819"/>
              <a:gd name="adj2" fmla="val -1666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 think, therefore I 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santa_claus_0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2057400"/>
            <a:ext cx="2998800" cy="445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9200" y="1143000"/>
            <a:ext cx="60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absolute objective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ledge is relative to the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e or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51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45680" y="5943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ay be safer for ethics, politics &amp; reli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t what about maths and science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4" descr="flat-earth-society"/>
          <p:cNvPicPr/>
          <p:nvPr/>
        </p:nvPicPr>
        <p:blipFill>
          <a:blip r:embed="rId2"/>
          <a:stretch/>
        </p:blipFill>
        <p:spPr>
          <a:xfrm>
            <a:off x="322200" y="2362320"/>
            <a:ext cx="3225960" cy="3504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6"/>
          <p:cNvSpPr/>
          <p:nvPr/>
        </p:nvSpPr>
        <p:spPr>
          <a:xfrm>
            <a:off x="3124080" y="2743200"/>
            <a:ext cx="2514600" cy="1219320"/>
          </a:xfrm>
          <a:prstGeom prst="wedgeRoundRectCallout">
            <a:avLst>
              <a:gd name="adj1" fmla="val -68055"/>
              <a:gd name="adj2" fmla="val 1966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knew the Earth was f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447920" y="4952880"/>
            <a:ext cx="4495680" cy="685800"/>
          </a:xfrm>
          <a:prstGeom prst="wedgeRoundRectCallout">
            <a:avLst>
              <a:gd name="adj1" fmla="val 59745"/>
              <a:gd name="adj2" fmla="val -3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know Santa Claus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ie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knowledg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elief in the knowledge statement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rue belief has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243640" cy="7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ified, true belief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1828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sonable &amp; positive evidence that supports &amp; justifies bel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rence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es this fit with our current understa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63520" y="541008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see any problems with these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school.discoveryeducation.com/schooladventures/images/universe/itsawesome/cosmiccalendar/decemberimage.jp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ndoor-thinker"/>
          <p:cNvPicPr/>
          <p:nvPr/>
        </p:nvPicPr>
        <p:blipFill>
          <a:blip r:embed="rId1"/>
          <a:stretch/>
        </p:blipFill>
        <p:spPr>
          <a:xfrm>
            <a:off x="2666880" y="1676520"/>
            <a:ext cx="37735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7/74/Mercator-projection.jpg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orldbridgermedia.com/Cartography/vis_history/vis_history_images/Hobo-Dyer-South.jpg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HomerSimpson46"/>
          <p:cNvPicPr/>
          <p:nvPr/>
        </p:nvPicPr>
        <p:blipFill>
          <a:blip r:embed="rId1"/>
          <a:stretch/>
        </p:blipFill>
        <p:spPr>
          <a:xfrm>
            <a:off x="0" y="3809880"/>
            <a:ext cx="214308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3"/>
          <p:cNvSpPr/>
          <p:nvPr/>
        </p:nvSpPr>
        <p:spPr>
          <a:xfrm>
            <a:off x="2819520" y="2209680"/>
            <a:ext cx="4343400" cy="1067040"/>
          </a:xfrm>
          <a:prstGeom prst="wedgeRoundRectCallout">
            <a:avLst>
              <a:gd name="adj1" fmla="val -83550"/>
              <a:gd name="adj2" fmla="val 2102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5 minutes to write down things that you “know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nowled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hings you know, can you pick 3 things that you are certain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gravestone"/>
          <p:cNvPicPr/>
          <p:nvPr/>
        </p:nvPicPr>
        <p:blipFill>
          <a:blip r:embed="rId1"/>
          <a:stretch/>
        </p:blipFill>
        <p:spPr>
          <a:xfrm>
            <a:off x="1752480" y="320040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6:08Z</dcterms:created>
  <dc:creator>Dad</dc:creator>
  <dc:description/>
  <dc:language>en-US</dc:language>
  <cp:lastModifiedBy>Carl</cp:lastModifiedBy>
  <dcterms:modified xsi:type="dcterms:W3CDTF">2012-08-26T00:32:08Z</dcterms:modified>
  <cp:revision>47</cp:revision>
  <dc:subject/>
  <dc:title>Knowledge and reasoning</dc:title>
</cp:coreProperties>
</file>