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0.gif" ContentType="image/gif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3DD5-BF04-443C-BBD6-FC16D7F5B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9D89-0D39-40EF-9740-6B91D61A0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lin that your knowledge can be placed on this continuum. You could possibly get them to place their own “knowledge” on the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72AC-CCBE-4622-B2C1-D88ED5673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work on this in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C446-8983-4AC9-A2E3-1255F1C2D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062B-00D4-4656-9247-2FCD10F9D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D8D2-FE03-450B-B873-9AF502F94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his sheet out. Get them to count the leprechauns. Then cut the top half as shown and swap the top halfs – ONE MORE LEPRECHAUN! How?! How safe is our perception of truth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E6A5-B247-4EB4-8497-36B542DB7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369C-A462-4446-B9BA-7CAC2869A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861E-718A-4FCD-B7DE-19327899F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458D-F66C-4994-8971-B4FFD42DD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4AFE-9BD1-4E08-A8B4-81AD87CD4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B905-17C7-48A9-9F9C-957485CCF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ile of sand + one pile of sand = one pile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8B38-B973-4758-94FA-4C632FEA8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trust your memory? Have you seen the Matrix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43F4-BFCA-40D9-8E09-B6DC55F96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is a knowledge state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EE09-B644-4417-A3A6-28DD451AD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6EF2-3A6E-4333-ADD3-D23871077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404C-D677-450F-90CC-DBEE39E68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5E8B-43CC-420B-A020-AA083A8D1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8C09-9A9B-4B3D-BF62-F43C0A85D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you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B511-951C-452D-A85B-4799ADEE4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one thi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5944-743D-42E2-8570-CF6C6930A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 t just stupid people who get things wro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uld be that what you learn in school will not be totally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know if something is tru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4A7A-0211-49DE-B753-7488E2F4B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7482-0962-454B-A857-392F176B3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8CD9-B6AE-431D-BD67-AFF009A06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DABA-1A7C-430A-8EB2-988358FA6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FEFB-49BF-4C94-956D-88CF176D5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0C2F-422E-4C76-8947-28C04902C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estimates are that the universe is 15 billion  years old - The earth is 4.55 billion years 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s developed about 2 million years ago - These figures are controversial! – most probably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pm 1 January – and the universe began exactly 1 year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ay – the galaxy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September –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days later the earth was formed (1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September – life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November – oldest photosynthetic plants devel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December – significant quantity of oxygen in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irst 8 ½ months there was n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nother 2 ½ there was no conceivable way for humans to surv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 December – fish developed – trees followed soon after (2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 Decemeber – dinosaurs, mammals 26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cember – seems a massive comet hit earth causing major climatic change killing dinosa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December – humans appeared – all human history happened on the last day of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59.59 – Renaissance and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(in this room) have existed for a tiny fraction of second, on the last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likely is it that we have found out any profound truths about 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67EE-13C4-409A-BBA0-A4E4407B8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see knowledge as organised common sense – some valid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often little more than vague &amp; untested beliefs based on prejudice, hearsay and blind appeals to 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ense is a starting point in coping with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al map of reality – our ideas of T &amp; F, what is reasonable/ unreasonable, right/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you should be willing to subject your MM to critical scruti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6074-4204-4AEF-A53E-52A9803A0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ator Pro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orts relative size – places further from Equator = larger. Africa 4x Gree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Hemisphere at top – no up or dow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centric – Pacif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06AF-FCED-4FDA-8A2B-68643D2E3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bo-Dyer projection – reflects relative siz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ientating! Illustrates grip habitual ways of thinking have on our minds – difficult to br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ense mental maps may give us a distorted picture of re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&amp; beliefs – own exp, parents, friends, teachers, books,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 check everything – MM - likely inaccuracies, half truths, falseho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s &amp; conventions – difficult to think outside what we are familiar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al biases – Greatest writer? Greatest scientist? (GB = Shakespeare, Newton. Italy = Dante, Galile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have a perfect map? 1:1 – quickly out of date – to be useful it has to be imper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p is not the terr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4F65-9CA4-47AF-B12C-C20F53F99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are problems with our common sense picture should we stick to what we are certain abou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know something you are certain it is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believe something you may think it is true, but you are not ce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how certain can we ever b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34BB-B75A-49D7-B2FE-FFFF804D7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6262-5626-4EF3-95F0-0988A1F76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3EDE-6C30-4F4C-A2F0-3FEAC271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C081-EEB1-4A61-A4F4-7834D714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0279-7134-4730-B292-8A46A1A1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D239-6E4F-42E5-9FDE-14114C5B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9FA4-8C9B-4846-8115-BB4A2000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464D-132C-48EB-830A-0CB89714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472D-50DF-4EAF-B16F-EA195E46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785B-1566-479E-AF26-6B7704E8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E993-7304-4787-81FA-59A08B29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0E06-FB79-454C-8B23-51F63E0D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7B6D-A49E-4C4F-93E3-68913F9F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2EAC-D5C0-40F9-9C1D-0A403C0A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15D6-A1F5-4DEF-9F9B-2CA2B6EB12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yetricks.com/3301.htm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Theory of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answersingenesis.org/assets/images/articles/2006/05/cartoonist_theory.gif"/>
          <p:cNvPicPr/>
          <p:nvPr/>
        </p:nvPicPr>
        <p:blipFill>
          <a:blip r:embed="rId2"/>
          <a:stretch/>
        </p:blipFill>
        <p:spPr>
          <a:xfrm>
            <a:off x="1447920" y="1676520"/>
            <a:ext cx="609588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you choose three of the things you “know” that you are least certain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flying-pig"/>
          <p:cNvPicPr/>
          <p:nvPr/>
        </p:nvPicPr>
        <p:blipFill>
          <a:blip r:embed="rId1"/>
          <a:stretch/>
        </p:blipFill>
        <p:spPr>
          <a:xfrm>
            <a:off x="2286000" y="3124080"/>
            <a:ext cx="388764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/knowledge continu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Unlike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rob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m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er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"/>
          <p:cNvSpPr/>
          <p:nvPr/>
        </p:nvSpPr>
        <p:spPr>
          <a:xfrm>
            <a:off x="152280" y="3962520"/>
            <a:ext cx="86868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5"/>
          <p:cNvSpPr/>
          <p:nvPr/>
        </p:nvSpPr>
        <p:spPr>
          <a:xfrm>
            <a:off x="68580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>
            <a:off x="426708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830592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819520" y="36576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6324480" y="36576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 we get our knowledg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ook at your list of things that you „know”. Where and how did you get that knowled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books"/>
          <p:cNvPicPr/>
          <p:nvPr/>
        </p:nvPicPr>
        <p:blipFill>
          <a:blip r:embed="rId1"/>
          <a:stretch/>
        </p:blipFill>
        <p:spPr>
          <a:xfrm>
            <a:off x="3276720" y="3200400"/>
            <a:ext cx="53528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k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http://2.bp.blogspot.com/_04dOdG4x1PY/SN_vndm77XI/AAAAAAAAAvk/KwIxq0SVf3U/s320/Capa.JPG"/>
          <p:cNvPicPr/>
          <p:nvPr/>
        </p:nvPicPr>
        <p:blipFill>
          <a:blip r:embed="rId1"/>
          <a:stretch/>
        </p:blipFill>
        <p:spPr>
          <a:xfrm>
            <a:off x="2057400" y="175248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ky is blu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http://www.techspot.com/gallery/data/504/medium/13880Blue_Sky.jpg"/>
          <p:cNvPicPr/>
          <p:nvPr/>
        </p:nvPicPr>
        <p:blipFill>
          <a:blip r:embed="rId1"/>
          <a:stretch/>
        </p:blipFill>
        <p:spPr>
          <a:xfrm>
            <a:off x="1219320" y="16956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leprechauns"/>
          <p:cNvPicPr/>
          <p:nvPr/>
        </p:nvPicPr>
        <p:blipFill>
          <a:blip r:embed="rId1"/>
          <a:stretch/>
        </p:blipFill>
        <p:spPr>
          <a:xfrm>
            <a:off x="1143000" y="2057400"/>
            <a:ext cx="6667560" cy="3809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914400" y="4114800"/>
            <a:ext cx="70102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leprechauns"/>
          <p:cNvPicPr/>
          <p:nvPr/>
        </p:nvPicPr>
        <p:blipFill>
          <a:blip r:embed="rId1"/>
          <a:stretch/>
        </p:blipFill>
        <p:spPr>
          <a:xfrm>
            <a:off x="1143000" y="2057400"/>
            <a:ext cx="6667560" cy="3809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0"/>
          <p:cNvSpPr/>
          <p:nvPr/>
        </p:nvSpPr>
        <p:spPr>
          <a:xfrm>
            <a:off x="914400" y="4114800"/>
            <a:ext cx="70866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1"/>
          <p:cNvSpPr/>
          <p:nvPr/>
        </p:nvSpPr>
        <p:spPr>
          <a:xfrm>
            <a:off x="2590920" y="1130400"/>
            <a:ext cx="3733560" cy="774720"/>
          </a:xfrm>
          <a:custGeom>
            <a:avLst/>
            <a:gdLst>
              <a:gd name="textAreaLeft" fmla="*/ 0 w 3733560"/>
              <a:gd name="textAreaRight" fmla="*/ 3733920 w 373356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352" h="488">
                <a:moveTo>
                  <a:pt x="2352" y="488"/>
                </a:moveTo>
                <a:cubicBezTo>
                  <a:pt x="1900" y="252"/>
                  <a:pt x="1448" y="16"/>
                  <a:pt x="1056" y="8"/>
                </a:cubicBezTo>
                <a:cubicBezTo>
                  <a:pt x="664" y="0"/>
                  <a:pt x="332" y="220"/>
                  <a:pt x="0" y="440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12"/>
          <p:cNvSpPr/>
          <p:nvPr/>
        </p:nvSpPr>
        <p:spPr>
          <a:xfrm>
            <a:off x="3352680" y="1066680"/>
            <a:ext cx="3505320" cy="83844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208" h="528">
                <a:moveTo>
                  <a:pt x="0" y="528"/>
                </a:moveTo>
                <a:cubicBezTo>
                  <a:pt x="464" y="264"/>
                  <a:pt x="928" y="0"/>
                  <a:pt x="1296" y="0"/>
                </a:cubicBezTo>
                <a:cubicBezTo>
                  <a:pt x="1664" y="0"/>
                  <a:pt x="1936" y="264"/>
                  <a:pt x="2208" y="52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leprechauns"/>
          <p:cNvPicPr/>
          <p:nvPr/>
        </p:nvPicPr>
        <p:blipFill>
          <a:blip r:embed="rId1"/>
          <a:stretch/>
        </p:blipFill>
        <p:spPr>
          <a:xfrm>
            <a:off x="343080" y="2057400"/>
            <a:ext cx="8038800" cy="4267080"/>
          </a:xfrm>
          <a:prstGeom prst="rect">
            <a:avLst/>
          </a:prstGeom>
          <a:ln w="0">
            <a:noFill/>
          </a:ln>
        </p:spPr>
      </p:pic>
      <p:sp>
        <p:nvSpPr>
          <p:cNvPr id="115" name="Freeform 10"/>
          <p:cNvSpPr/>
          <p:nvPr/>
        </p:nvSpPr>
        <p:spPr>
          <a:xfrm>
            <a:off x="2590920" y="1130400"/>
            <a:ext cx="3733560" cy="774720"/>
          </a:xfrm>
          <a:custGeom>
            <a:avLst/>
            <a:gdLst>
              <a:gd name="textAreaLeft" fmla="*/ 0 w 3733560"/>
              <a:gd name="textAreaRight" fmla="*/ 3733920 w 373356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352" h="488">
                <a:moveTo>
                  <a:pt x="2352" y="488"/>
                </a:moveTo>
                <a:cubicBezTo>
                  <a:pt x="1900" y="252"/>
                  <a:pt x="1448" y="16"/>
                  <a:pt x="1056" y="8"/>
                </a:cubicBezTo>
                <a:cubicBezTo>
                  <a:pt x="664" y="0"/>
                  <a:pt x="332" y="220"/>
                  <a:pt x="0" y="440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1"/>
          <p:cNvSpPr/>
          <p:nvPr/>
        </p:nvSpPr>
        <p:spPr>
          <a:xfrm>
            <a:off x="3352680" y="1066680"/>
            <a:ext cx="3505320" cy="83844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208" h="528">
                <a:moveTo>
                  <a:pt x="0" y="528"/>
                </a:moveTo>
                <a:cubicBezTo>
                  <a:pt x="464" y="264"/>
                  <a:pt x="928" y="0"/>
                  <a:pt x="1296" y="0"/>
                </a:cubicBezTo>
                <a:cubicBezTo>
                  <a:pt x="1664" y="0"/>
                  <a:pt x="1936" y="264"/>
                  <a:pt x="2208" y="52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leprechau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ractor Perspective Illusion - Optical Illusion Image Gallery #3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moving lines of leaves"/>
          <p:cNvPicPr/>
          <p:nvPr/>
        </p:nvPicPr>
        <p:blipFill>
          <a:blip r:embed="rId7"/>
          <a:stretch/>
        </p:blipFill>
        <p:spPr>
          <a:xfrm>
            <a:off x="1828800" y="1484280"/>
            <a:ext cx="668664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http://twinmath.wikispaces.com/file/view/Logo-1-2-Buckle....gif"/>
          <p:cNvPicPr/>
          <p:nvPr/>
        </p:nvPicPr>
        <p:blipFill>
          <a:blip r:embed="rId1"/>
          <a:stretch/>
        </p:blipFill>
        <p:spPr>
          <a:xfrm>
            <a:off x="2362320" y="1752480"/>
            <a:ext cx="47242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know a lot by 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access to even more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spapers!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‘Alien base found on dark side of the moon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!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‘Elvis is alive’ web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ims made about future all th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base 2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 + 1 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2971800"/>
          <a:ext cx="7772400" cy="35784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http://images.neopets.com/desert/ldp/trap_sand.gif"/>
          <p:cNvPicPr/>
          <p:nvPr/>
        </p:nvPicPr>
        <p:blipFill>
          <a:blip r:embed="rId1"/>
          <a:stretch/>
        </p:blipFill>
        <p:spPr>
          <a:xfrm>
            <a:off x="304920" y="25909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://images.neopets.com/desert/ldp/trap_sand.gif"/>
          <p:cNvPicPr/>
          <p:nvPr/>
        </p:nvPicPr>
        <p:blipFill>
          <a:blip r:embed="rId2"/>
          <a:stretch/>
        </p:blipFill>
        <p:spPr>
          <a:xfrm>
            <a:off x="2819520" y="25909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http://images.neopets.com/desert/ldp/trap_sand.gif"/>
          <p:cNvPicPr/>
          <p:nvPr/>
        </p:nvPicPr>
        <p:blipFill>
          <a:blip r:embed="rId3"/>
          <a:stretch/>
        </p:blipFill>
        <p:spPr>
          <a:xfrm>
            <a:off x="5105520" y="1523880"/>
            <a:ext cx="3828960" cy="38293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2438280" y="38862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5105520" y="38862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I went for a run yester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http://observers.france24.com/files/images/usain-bolt-m.jpg"/>
          <p:cNvPicPr/>
          <p:nvPr/>
        </p:nvPicPr>
        <p:blipFill>
          <a:blip r:embed="rId1"/>
          <a:stretch/>
        </p:blipFill>
        <p:spPr>
          <a:xfrm>
            <a:off x="1523880" y="1905120"/>
            <a:ext cx="6127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omen are more emotional than 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" descr="http://www.dogbitelaw.com/graphics/Crying-woman-small.jpg"/>
          <p:cNvPicPr/>
          <p:nvPr/>
        </p:nvPicPr>
        <p:blipFill>
          <a:blip r:embed="rId1"/>
          <a:stretch/>
        </p:blipFill>
        <p:spPr>
          <a:xfrm>
            <a:off x="2743200" y="1981080"/>
            <a:ext cx="342900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I love my br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Content Placeholder 3" descr="Lee.jpg"/>
          <p:cNvPicPr/>
          <p:nvPr/>
        </p:nvPicPr>
        <p:blipFill>
          <a:blip r:embed="rId1"/>
          <a:stretch/>
        </p:blipFill>
        <p:spPr>
          <a:xfrm>
            <a:off x="3048120" y="1828800"/>
            <a:ext cx="28731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at a lake is more beautiful than a sewage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cheapoair.files.wordpress.com/2009/04/lake-titicaca.jpg"/>
          <p:cNvPicPr/>
          <p:nvPr/>
        </p:nvPicPr>
        <p:blipFill>
          <a:blip r:embed="rId1"/>
          <a:stretch/>
        </p:blipFill>
        <p:spPr>
          <a:xfrm>
            <a:off x="304920" y="4114800"/>
            <a:ext cx="3808440" cy="2400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http://www.north-dorset.gov.uk/printer/sewage_wks-2.jpg"/>
          <p:cNvPicPr/>
          <p:nvPr/>
        </p:nvPicPr>
        <p:blipFill>
          <a:blip r:embed="rId2"/>
          <a:stretch/>
        </p:blipFill>
        <p:spPr>
          <a:xfrm>
            <a:off x="4635360" y="1981080"/>
            <a:ext cx="3937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 room is h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://t3.gstatic.com/images?q=tbn:ANd9GcRxR7v3v1adIkrfFh3yrUQocLFo8kkmJFuR_ty14_B0yez2zpI&amp;t=1&amp;usg=__QoYAp7D6hKlDLYxRICt1cqZMEAE="/>
          <p:cNvPicPr/>
          <p:nvPr/>
        </p:nvPicPr>
        <p:blipFill>
          <a:blip r:embed="rId2"/>
          <a:stretch/>
        </p:blipFill>
        <p:spPr>
          <a:xfrm>
            <a:off x="2438280" y="1676520"/>
            <a:ext cx="3810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at Mozart was a great compo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http://scrapetv.com/News/News%20Pages/Entertainment/images-3/amadeus-movie.jpg"/>
          <p:cNvPicPr/>
          <p:nvPr/>
        </p:nvPicPr>
        <p:blipFill>
          <a:blip r:embed="rId1"/>
          <a:stretch/>
        </p:blipFill>
        <p:spPr>
          <a:xfrm>
            <a:off x="914400" y="2057400"/>
            <a:ext cx="64008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re is life after de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" descr="http://1.bp.blogspot.com/_-2IprnjpOLw/SOR1QgwY81I/AAAAAAAAAIE/2U2RFIQJED8/s400/life_after_death.jpg"/>
          <p:cNvPicPr/>
          <p:nvPr/>
        </p:nvPicPr>
        <p:blipFill>
          <a:blip r:embed="rId1"/>
          <a:stretch/>
        </p:blipFill>
        <p:spPr>
          <a:xfrm>
            <a:off x="2209680" y="198108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re is a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2" descr="http://www.cartoonstock.com/newscartoons/cartoonists/jht/lowres/jhtn43l.jpg"/>
          <p:cNvPicPr/>
          <p:nvPr/>
        </p:nvPicPr>
        <p:blipFill>
          <a:blip r:embed="rId1"/>
          <a:stretch/>
        </p:blipFill>
        <p:spPr>
          <a:xfrm>
            <a:off x="2286000" y="1600200"/>
            <a:ext cx="38862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0880" y="304920"/>
            <a:ext cx="83059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re is no likelihood that humans will ever tap the power of the atom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ert Millikan, Nobel Prize winner in 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tom bomb will never go off and I speak as an expert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ral Leahy, advisor to the US President (19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there will be a world market for 5 computers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mas Watson, founder of IBM (195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y 2000 women will wear pants, men will wear skirts, both sexes will go bare-chested and clothes will be see-through.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di Gernreitch. American fashion expert (197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internet will never take off.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Gates, founder of Microsoft (198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dogs are disgu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2" descr="http://www.maniacworld.com/dog-eats-his-own-poop-2.jpg"/>
          <p:cNvPicPr/>
          <p:nvPr/>
        </p:nvPicPr>
        <p:blipFill>
          <a:blip r:embed="rId1"/>
          <a:stretch/>
        </p:blipFill>
        <p:spPr>
          <a:xfrm>
            <a:off x="1523880" y="167652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44000" cy="73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rtain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838080" y="137160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inguishe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knowled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rom belie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uth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ithout dou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600200" y="2743200"/>
            <a:ext cx="2895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9" descr="descartes"/>
          <p:cNvPicPr/>
          <p:nvPr/>
        </p:nvPicPr>
        <p:blipFill>
          <a:blip r:embed="rId1"/>
          <a:stretch/>
        </p:blipFill>
        <p:spPr>
          <a:xfrm>
            <a:off x="5580000" y="2262240"/>
            <a:ext cx="2878200" cy="34480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7"/>
          <p:cNvSpPr/>
          <p:nvPr/>
        </p:nvSpPr>
        <p:spPr>
          <a:xfrm>
            <a:off x="4038480" y="5715000"/>
            <a:ext cx="3657600" cy="685800"/>
          </a:xfrm>
          <a:prstGeom prst="wedgeRoundRectCallout">
            <a:avLst>
              <a:gd name="adj1" fmla="val 27819"/>
              <a:gd name="adj2" fmla="val -16666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 think, therefore I 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vism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0" descr="santa_claus_000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715000" y="2057400"/>
            <a:ext cx="2998800" cy="4456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979200" y="1143000"/>
            <a:ext cx="60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absolute objective tr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nowledge is relative to the individu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lture or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905120" y="3505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45680" y="5943600"/>
            <a:ext cx="51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may be safer for ethics, politics &amp; reli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ut what about maths and science?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4" descr="flat-earth-society"/>
          <p:cNvPicPr/>
          <p:nvPr/>
        </p:nvPicPr>
        <p:blipFill>
          <a:blip r:embed="rId2"/>
          <a:stretch/>
        </p:blipFill>
        <p:spPr>
          <a:xfrm>
            <a:off x="322200" y="2362320"/>
            <a:ext cx="3225960" cy="350496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16"/>
          <p:cNvSpPr/>
          <p:nvPr/>
        </p:nvSpPr>
        <p:spPr>
          <a:xfrm>
            <a:off x="3124080" y="2743200"/>
            <a:ext cx="2514600" cy="1219320"/>
          </a:xfrm>
          <a:prstGeom prst="wedgeRoundRectCallout">
            <a:avLst>
              <a:gd name="adj1" fmla="val -68055"/>
              <a:gd name="adj2" fmla="val 19662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 knew the Earth was fl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1447920" y="4952880"/>
            <a:ext cx="4495680" cy="685800"/>
          </a:xfrm>
          <a:prstGeom prst="wedgeRoundRectCallout">
            <a:avLst>
              <a:gd name="adj1" fmla="val 59745"/>
              <a:gd name="adj2" fmla="val -32638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 know Santa Claus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400" y="22096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ie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knowledg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belief in the knowledge statement has to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true belief has to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usti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ified, true belief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243640" cy="73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ified, true belief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371600" y="1828800"/>
            <a:ext cx="754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idence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easonable &amp; positive evidence that supports &amp; justifies belie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herence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oes this fit with our current understand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163520" y="5410080"/>
            <a:ext cx="76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you see any problems with these requirem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school.discoveryeducation.com/schooladventures/images/universe/itsawesome/cosmiccalendar/decemberimage.jpg"/>
          <p:cNvPicPr/>
          <p:nvPr/>
        </p:nvPicPr>
        <p:blipFill>
          <a:blip r:embed="rId2"/>
          <a:stretch/>
        </p:blipFill>
        <p:spPr>
          <a:xfrm>
            <a:off x="533520" y="533520"/>
            <a:ext cx="8153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indoor-thinker"/>
          <p:cNvPicPr/>
          <p:nvPr/>
        </p:nvPicPr>
        <p:blipFill>
          <a:blip r:embed="rId1"/>
          <a:stretch/>
        </p:blipFill>
        <p:spPr>
          <a:xfrm>
            <a:off x="2666880" y="1676520"/>
            <a:ext cx="377352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upload.wikimedia.org/wikipedia/commons/7/74/Mercator-projection.jpg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http://worldbridgermedia.com/Cartography/vis_history/vis_history_images/Hobo-Dyer-South.jpg"/>
          <p:cNvPicPr/>
          <p:nvPr/>
        </p:nvPicPr>
        <p:blipFill>
          <a:blip r:embed="rId2"/>
          <a:stretch/>
        </p:blipFill>
        <p:spPr>
          <a:xfrm>
            <a:off x="228600" y="380880"/>
            <a:ext cx="8610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you k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HomerSimpson46"/>
          <p:cNvPicPr/>
          <p:nvPr/>
        </p:nvPicPr>
        <p:blipFill>
          <a:blip r:embed="rId1"/>
          <a:stretch/>
        </p:blipFill>
        <p:spPr>
          <a:xfrm>
            <a:off x="0" y="3809880"/>
            <a:ext cx="2143080" cy="3048120"/>
          </a:xfrm>
          <a:prstGeom prst="rect">
            <a:avLst/>
          </a:prstGeom>
          <a:ln w="0">
            <a:noFill/>
          </a:ln>
        </p:spPr>
      </p:pic>
      <p:sp>
        <p:nvSpPr>
          <p:cNvPr id="69" name="Rounded Rectangular Callout 3"/>
          <p:cNvSpPr/>
          <p:nvPr/>
        </p:nvSpPr>
        <p:spPr>
          <a:xfrm>
            <a:off x="2819520" y="2209680"/>
            <a:ext cx="4343400" cy="1067040"/>
          </a:xfrm>
          <a:prstGeom prst="wedgeRoundRectCallout">
            <a:avLst>
              <a:gd name="adj1" fmla="val -83550"/>
              <a:gd name="adj2" fmla="val 21026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have 5 minutes to write down things that you “know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things you know, can you pick 3 things that you are certain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gravestone"/>
          <p:cNvPicPr/>
          <p:nvPr/>
        </p:nvPicPr>
        <p:blipFill>
          <a:blip r:embed="rId1"/>
          <a:stretch/>
        </p:blipFill>
        <p:spPr>
          <a:xfrm>
            <a:off x="1752480" y="3200400"/>
            <a:ext cx="518184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1:26:08Z</dcterms:created>
  <dc:creator>Dad</dc:creator>
  <dc:description/>
  <dc:language>en-US</dc:language>
  <cp:lastModifiedBy>Carl</cp:lastModifiedBy>
  <dcterms:modified xsi:type="dcterms:W3CDTF">2012-08-26T00:32:08Z</dcterms:modified>
  <cp:revision>47</cp:revision>
  <dc:subject/>
  <dc:title>Knowledge and reasoning</dc:title>
</cp:coreProperties>
</file>